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DACF-B1FD-424F-8334-0029218F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3048-DD6F-4AEB-97F7-3F416E35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787-C599-4935-8352-3B5EC63F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AC1-A87D-455D-ACE1-98ED3666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1C8-6937-446E-BE2C-33208CF1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3389-D3D8-4F77-BCD7-0BEC2556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7F7E-C414-409D-B0F4-B6DBCBD8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46C-5CE9-4011-BC4F-50246675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FF4-6A21-4D39-90D2-98F12564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DDA1-E94F-4A0F-997C-7B376449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6E9-A2A1-442B-8BB4-B341A6E0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8504-0F10-4672-92E5-1B97BC67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6A85-DDAB-4D65-9CD3-E481A81E6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learning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 aplikácia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ej Morav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č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1840" y="2008080"/>
            <a:ext cx="8661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tvorený študentmi na štýl wiki so študijnými materiálmi z matfyz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istória skúšok, história minuloročných písomiek projektov a zadaní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žnosť editovania testov a prerábaní do interaktívnej formy s automatickým hodnot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dnášky a iné materiály k predme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lavná idea projektu je zhotoviť jedno veľké úložisko dát, ktoré pomôžu študentovi s daným predme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vigá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1840" y="2008080"/>
            <a:ext cx="866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vigácia vo viacerých vrstv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lavná navigácia sekcia s predmetmi, poradňa, fór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sekcie jednotlivých predmetov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teriály od vyučujúceho, vypraované poznámky od nadšencov..., história skúšok, písomiek, projektov... + hotové vypracovania alebo možnosť vypracovani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ánovač a te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1840" y="2008080"/>
            <a:ext cx="866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žnosť spoločného dopĺnania plánovača udal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žnosť riešenia testov z daného predmetu tvorené užívateľmi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1:50:17Z</dcterms:created>
  <dc:creator>matej</dc:creator>
  <dc:description/>
  <dc:language>en-US</dc:language>
  <cp:lastModifiedBy>matej</cp:lastModifiedBy>
  <dcterms:modified xsi:type="dcterms:W3CDTF">2008-12-01T12:51:27Z</dcterms:modified>
  <cp:revision>2</cp:revision>
  <dc:subject/>
  <dc:title>E-learningová aplikácia  Matej Moravčík</dc:title>
</cp:coreProperties>
</file>